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B6C-378D-4A96-B954-A6F9386225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Un terzo modulo di contabilità analitica per PROGETTI è stato progettato per le specifiche esigenze delle ONG – Organizzazioni Non Governative che hanno una particolare esigenza sia nella pianificazione sia nella gesti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’Ente a cui rendicontare il progetto può essere più di un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ossono partecipare più coofinanziatori anche con il ruolo di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l progetto viene suddiviso in più annualità con possibilità di prorogh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utti questi aspetti sono gestiti dal modulo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rogetti con cofinanziatori e più annual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Anagrafica  e gestione progetti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I partecipanti al progetto verranno individuati in: 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ONGF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 (Azienda)   (finanziamento)  ONGA  (Azienda)   (Valorizzazione apporto benevolo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coofinanziatore 1,  Ente coofinanziatore 2,  Ente coofinanziatore 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1,  Partner 2,  Partner 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i inserisce sul progetto con la possibilità di suddividere il progetto in N </a:t>
            </a: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annualità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/ rendicontazioni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Acquisizione apporto valorizzazione  benevola (ONG e Partner) (vedi scheda fase 8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ono valorizzazioni di beni o servizi dell’Azienda o Partner non rilevati da documenti contabili, ma da una scheda interna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i prevede l’inserimento di questi apporti come “movimenti istituzionali”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a pianificazione viene così implementa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i inseriscono gl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obiettiv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del progetto ( l’importo totale del progetto e la percentuale di partecipazione di ogni coofinanziator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.a - NPS propone le stesse percentuali sulle singole voci del piano finanziari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.b - Il pianificatore può bloccare o modificare in funzione dei vincoli del PRG, le %% tenendo conto che NPS controllerà che il totale di ogni singolo rigo (voce del P.F.) sia  100%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er ogni voce del P.F. del progetto si effettua la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ianificazione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(totale progetto per ogni voce del piano finanziario) (NPS: Simulazioni </a:t>
            </a:r>
            <a:r>
              <a:rPr b="0" lang="it-IT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Importo Richiesto / Ammesso / Storna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3 – Immissione importi in valore su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odifica degli importi calcolati in base alle percentua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fornirà aggiornati il totale degl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import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immessi e le percentuali calcolate (totale pianificato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arà quindi sempre possibile un confronto con gli obiettivi e del totale pianificato (in % ed in valor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i possono sempre modificare i singoli importi e/o le singole percentuali (con click sulla scheda %% si posiziona in immetti % e calcola sulla scheda valori e vicevers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una simulazione in corso, non definitiva, via via che si inseriscono i dati si dovà aggiornare il totale degli importi immessi con dettaglio suddivisione per cofinanziator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5 -  annualità :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serire il numero di annualità (da 1° a N) e la % per ognuna di esse (di default 100% / N. annualità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calcolerà gli importi e le percentuali per ogni voce del piano finanziario / coofinanziatore / annualità e    il dettaglio annualit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nche in questo caso si potranno modificare  i valori o le percentuali, NPS controllerà che quanto pianificato nella fase precedente venga rispettato permettendo nell’ambito di ogni ente/coofinanziatore spostamenti tra le annualità evidenziando le variazioni con colore divers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 pianificazione terminata Nps permetterà di stampare un report finalizzato alla richiesta di finanziament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resentazione PRG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attività gestite)   e 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Approvazione del progett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ome dalle attuali funzionalità, quando il progetto sarà approvato il responsabile del progetto inserirà gli importi approvati ovvero riporterà sul richiesto le eventuali variazioni apportate dagli En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dicherà inoltre la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a di inizio progetto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e per ogn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annualità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: la data di inizio , la data di f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 mesi di eventuale proroga (se non ci sono proroghe la d. fine proroga e quella di fine annualità coincideranno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calcola la “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a fine Proroga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” su cui si basa sempre per effettuare le ripartizioni nell’annualità di competenza (è inoltre possibile inserire direttamente una dat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 caso di inserimento dei mesi di proroga, NPS calcola la “Data di fine proroga” e adeguerà la data di inizio dell’annualità successiv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ei dati iniziali pianificati, NPS conserverà, ai soli fini statistici, solo i totali di PRG mentre trasformerà il dettaglio in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i approvat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arà inoltre possibile in ogni momento avere un report di riepilogo dei progetti di cui si attende l’approvazi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agineHelp/CGE/cge_primanota.htm" TargetMode="External"/><Relationship Id="rId3" Type="http://schemas.openxmlformats.org/officeDocument/2006/relationships/hyperlink" Target="file:///../PagineHelp/CFP/cfp_ripcostiprgpnota.htm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hyperlink" Target="file:///../PagineHelp/CAN/can_prg_coof_RipAss.htm" TargetMode="External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31971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N 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i  Non  Gov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437000"/>
            <a:ext cx="6480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getti con cofinanziatori e più annualit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anificazione / Rendicontazione per obiettivi e/o per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tion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di Decentr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  Unità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8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53160" y="0"/>
            <a:ext cx="249084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72360" y="220500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6237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14172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19890000">
            <a:off x="4173480" y="1699920"/>
            <a:ext cx="234324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ew  ATTIVITA'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2555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% dei coofinanziatori vengono riproposti su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possibile variare i dati sia per coofinanziatore che per 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280" y="4581360"/>
            <a:ext cx="896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 operativa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%% di riga delle annualità sono calcolate su base 100 (somma delle tre annualità = 100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percentuali del Totale sono su base 100% di col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 modificano i dati della colonna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tale impor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dati calcolati in base all’obiet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278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80000" y="3789360"/>
            <a:ext cx="13669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292720" y="4292640"/>
            <a:ext cx="792000" cy="151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1557360"/>
            <a:ext cx="100800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244000" y="1773000"/>
            <a:ext cx="14436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013360"/>
            <a:ext cx="8964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calcolato sarà diverso dall’ 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Obiet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che potrà essere variato, in tal caso gli importi saranno ricalc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278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360" y="2349360"/>
            <a:ext cx="216072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140360" y="2708280"/>
            <a:ext cx="576000" cy="26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5661000"/>
            <a:ext cx="8785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ati immessi per ogni conto di dettaglio del piano finanziario sono proposti in base alle percentuali degli obiettivi per annualità e coofinanzi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573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43640" y="2540160"/>
            <a:ext cx="720720" cy="21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80280" y="3468600"/>
            <a:ext cx="7207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1197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mpo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34936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o di dettaglio (minusco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341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rcen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112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o di riepilogo (maiusco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068800"/>
            <a:ext cx="1584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413000"/>
            <a:ext cx="302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ogni conto di dettaglio, modificando le percentuali, saranno ricalcolati gli importi  e viceversa.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turalmente il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totale pianific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op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ulteriormente modifica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inserito se non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56196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19640" y="2492280"/>
            <a:ext cx="720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2840" y="2517840"/>
            <a:ext cx="1055520" cy="6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660760"/>
            <a:ext cx="649080" cy="4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637000"/>
            <a:ext cx="4334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797360"/>
            <a:ext cx="6012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387360"/>
            <a:ext cx="630072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964720" cy="27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odificabil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valori compresi nei rettangoli rosso, evidenziati da uno sfondo chi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 il Totale conto di dettaglio ed il totale per finanziatori escluso il primo rig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Finanziamento O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46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ettaglio delle annualità escluso l’ultima che viene ricalco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ifiche apportate vengono salvate quando ci si sposta dalla c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03960" y="2676600"/>
            <a:ext cx="1152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820960"/>
            <a:ext cx="72072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2460600"/>
            <a:ext cx="7207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9840" y="2676600"/>
            <a:ext cx="720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7840" y="2820960"/>
            <a:ext cx="4334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43680"/>
            <a:ext cx="287964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iteri di calcolo 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ltima annualità viene ricalcolata su base 100 di ri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ettaglio della colonna Totale, ricalcola l’apporto Finanziario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prima riga di dettagl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13000"/>
            <a:ext cx="309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biettivo del prog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% ed impo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otale pian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140360" y="404640"/>
            <a:ext cx="5003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56000" y="549360"/>
            <a:ext cx="165564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124000" y="764640"/>
            <a:ext cx="223200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149720"/>
            <a:ext cx="615636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5805360"/>
            <a:ext cx="896472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vando l’icona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 Posizionandosi su una cella di dettagl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03640" y="41760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32000" y="3789360"/>
            <a:ext cx="6012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093080" y="836640"/>
            <a:ext cx="71280" cy="51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5445000"/>
            <a:ext cx="896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ando l’icona “totali” e Posizionandosi su una cella di dettaglio, sono visibili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ific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ofinanziatori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2771640" y="4941720"/>
            <a:ext cx="158436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64000" y="4508280"/>
            <a:ext cx="0" cy="89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4581360"/>
            <a:ext cx="144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5445000"/>
            <a:ext cx="896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ando l’icona “totali” e Posizionandosi su una cella di dettaglio, sono visibili il pianifica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ofinanziatori 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tale pianific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coofinanziatore della cella selezio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75480" y="2508120"/>
            <a:ext cx="57636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858920" y="4508280"/>
            <a:ext cx="28908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8280" y="4317840"/>
            <a:ext cx="4832280" cy="247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6680" y="2508120"/>
            <a:ext cx="57636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581360"/>
            <a:ext cx="144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36360" y="0"/>
            <a:ext cx="338436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artizione Prg e PF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20640"/>
            <a:ext cx="2987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a normale gestione, d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ima No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 c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ò ess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parti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 più progetti e conti del Piano Fina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45360" y="1324080"/>
            <a:ext cx="2776320" cy="3598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96360" y="263700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87640" y="2923920"/>
            <a:ext cx="4608720" cy="2305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205000"/>
            <a:ext cx="3095640" cy="792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3528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    p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sti SIMULATI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rogetto inizia con l’anagrafica e prosegue con la previsione delle sp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anificazione può essere fatta partendo da 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iet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spesa in base alle precedenti esperi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ò proseguire passando per var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Z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l costo complessivo per ogni conto del Piano Fina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356000" cy="125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87680" y="2351160"/>
            <a:ext cx="2776680" cy="3598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36360" y="44280"/>
            <a:ext cx="7056360" cy="43200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i="1" lang="it-IT" sz="1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Ripartizione Prg e PF -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 ASSEGNAZIONE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 coofinanziatori e ann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0640"/>
            <a:ext cx="3348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a normale gestione, da Prima Nota il costo può essere ripartito su più progetti e conti del Piano Finanz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l progetto è con cofinanziatori e più annualità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attiva una sottoscheda in cui è possi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egn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osto ripartito ai cofinanziatori e alle 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429264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96360" y="249228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3933720"/>
            <a:ext cx="10810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3645000"/>
            <a:ext cx="4321080" cy="792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360" y="0"/>
            <a:ext cx="741672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i="1" lang="it-IT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Ripartizione Prg e PF -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 ASSEGNAZIONE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 coofinanziatori e ann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360" y="620640"/>
            <a:ext cx="298764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a normale gestione, da Prima Nota il costo può essere ripartito su più progetti e conti del Piano Finanz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il progetto è di tipo ONG, si attiva una sottoscheda in cui è possibile assegnare il costo ripartito ai cofinanziato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annualità proposta è quella relativa alla data di registrazione del mo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è relativa al periodo di una eventuale proroga, propone la spunta di tale peri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sistema propone le %% di assegnazione pianificate e poi ammesse per quel c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stesse possono essere modific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visibi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n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tot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m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54280" y="3244680"/>
            <a:ext cx="2776680" cy="3598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11640" y="450864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249228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71640" y="4365360"/>
            <a:ext cx="5256360" cy="19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877000"/>
            <a:ext cx="8893080" cy="576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MA    -     TREVISO    -     PERUGIA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ioiosa I.c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RC   Tel. 0964  41 22 66  Fax 41 23 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2431800" cy="29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43280" y="5300640"/>
            <a:ext cx="28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WWW.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24720" y="5138640"/>
            <a:ext cx="1054080" cy="4780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2195640" y="1197000"/>
            <a:ext cx="4248000" cy="1984320"/>
            <a:chOff x="2195640" y="1197000"/>
            <a:chExt cx="4248000" cy="1984320"/>
          </a:xfrm>
        </p:grpSpPr>
        <p:sp>
          <p:nvSpPr>
            <p:cNvPr id="200" name=""/>
            <p:cNvSpPr/>
            <p:nvPr/>
          </p:nvSpPr>
          <p:spPr>
            <a:xfrm>
              <a:off x="2195640" y="2882880"/>
              <a:ext cx="423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2349000" y="1197000"/>
              <a:ext cx="4094640" cy="1514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484360" y="2204640"/>
            <a:ext cx="4319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3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qui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finanzi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2195640" y="2636640"/>
            <a:ext cx="143964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qui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finanzi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annu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1619280" y="1484280"/>
            <a:ext cx="6481800" cy="22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333360"/>
          </a:xfrm>
          <a:prstGeom prst="rect">
            <a:avLst/>
          </a:prstGeom>
          <a:solidFill>
            <a:srgbClr val="f9efc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Arial"/>
              </a:rPr>
              <a:t>Pianificazione ONG   - 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1   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ATTIVITA’</a:t>
            </a:r>
            <a:endParaRPr b="0" i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  che possono essere legati con il Piano Finanziario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95560" y="0"/>
            <a:ext cx="5248440" cy="486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700280"/>
            <a:ext cx="3780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ianificazione per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IV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fare (attiv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o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mane e materia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determina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80000" y="1916280"/>
            <a:ext cx="8632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314172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16280"/>
            <a:ext cx="1224000" cy="21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80000" y="4076640"/>
            <a:ext cx="388764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3357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667640" y="3284640"/>
            <a:ext cx="64944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6516720" cy="4887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404640"/>
          </a:xfrm>
          <a:prstGeom prst="rect">
            <a:avLst/>
          </a:prstGeom>
          <a:solidFill>
            <a:srgbClr val="f9efc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66"/>
                </a:solidFill>
                <a:latin typeface="Arial"/>
              </a:rPr>
              <a:t>Pianificazione ONG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ianificazion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p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TTIVITA’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onogram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 diagramm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ant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 visualizza Attività, durata, risorse impegnate … e consente di riprogramm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6920" y="3500280"/>
            <a:ext cx="759780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IETTIV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ianificazione (totale p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ONG com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nanz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ONG com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porto Benevolo valor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coofinanziator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Enti e/o 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ltre alle ANNU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8480" y="1303200"/>
            <a:ext cx="8615520" cy="248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64000" y="692280"/>
            <a:ext cx="3708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628640"/>
            <a:ext cx="215892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5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anificazione pe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38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1268280"/>
            <a:ext cx="3780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2664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tat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izio P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agrafica, e le annualità (nr. ann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cheda propone lo sviluppo tempor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i predispone a ricevere i mesi di pror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cui calcola la data di fine proroga (annual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a data inizio dell’annualità succes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87640" y="1114560"/>
            <a:ext cx="6156360" cy="569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09:42:52Z</dcterms:created>
  <dc:creator>Silvio Coluccio</dc:creator>
  <dc:description/>
  <dc:language>en-US</dc:language>
  <cp:lastModifiedBy>Silvio</cp:lastModifiedBy>
  <dcterms:modified xsi:type="dcterms:W3CDTF">2004-02-17T10:28:10Z</dcterms:modified>
  <cp:revision>35</cp:revision>
  <dc:subject/>
  <dc:title>Vuova gestione DOCUMENTI come flusso</dc:title>
</cp:coreProperties>
</file>