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5490-88AE-45BE-983E-A60B72D6E63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Un terzo modulo di contabilità analitica per PROGETTI è stato progettato per le specifiche esigenze delle ONG – Organizzazioni Non Governative che hanno una particolare esigenza sia nella pianificazione sia nella gestio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 particolar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’Ente a cui rendicontare il progetto può essere più di un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ossono partecipare più coofinanziatori anche con il ruolo di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l progetto viene suddiviso in più annualità con possibilità di prorogh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Tutti questi aspetti sono gestiti dal modulo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Progetti con cofinanziatori e più annual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" spc="-1" strike="noStrike">
                <a:solidFill>
                  <a:srgbClr val="000000"/>
                </a:solidFill>
                <a:latin typeface="Arial"/>
              </a:rPr>
              <a:t>Anagrafica  e gestione progetti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I partecipanti al progetto verranno individuati in: 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00" spc="-1" strike="noStrike">
                <a:solidFill>
                  <a:srgbClr val="000000"/>
                </a:solidFill>
                <a:latin typeface="Arial"/>
              </a:rPr>
              <a:t>ONGF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  (Azienda)   (finanziamento)  ONGA  (Azienda)   (Valorizzazione apporto benevolo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" spc="-1" strike="noStrike">
                <a:solidFill>
                  <a:srgbClr val="000000"/>
                </a:solidFill>
                <a:latin typeface="Arial"/>
              </a:rPr>
              <a:t>Ente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 coofinanziatore 1,  Ente coofinanziatore 2,  Ente coofinanziatore 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 1,  Partner 2,  Partner 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Si inserisce sul progetto con la possibilità di suddividere il progetto in N </a:t>
            </a:r>
            <a:r>
              <a:rPr b="1" lang="it-IT" sz="300" spc="-1" strike="noStrike">
                <a:solidFill>
                  <a:srgbClr val="000000"/>
                </a:solidFill>
                <a:latin typeface="Arial"/>
              </a:rPr>
              <a:t>annualità</a:t>
            </a: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 / rendicontazioni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Acquisizione apporto valorizzazione  benevola (ONG e Partner) (vedi scheda fase 8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Sono valorizzazioni di beni o servizi dell’Azienda o Partner non rilevati da documenti contabili, ma da una scheda interna.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Si prevede l’inserimento di questi apporti come “movimenti istituzionali”.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a pianificazione viene così implementat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Fase 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i inseriscono gli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obiettivi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del progetto ( l’importo totale del progetto e la percentuale di partecipazione di ogni coofinanziator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.a - NPS propone le stesse percentuali sulle singole voci del piano finanziari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.b - Il pianificatore può bloccare o modificare in funzione dei vincoli del PRG, le %% tenendo conto che NPS controllerà che il totale di ogni singolo rigo (voce del P.F.) sia  100%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Fase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er ogni voce del P.F. del progetto si effettua la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pianificazione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(totale progetto per ogni voce del piano finanziario) (NPS: Simulazioni </a:t>
            </a:r>
            <a:r>
              <a:rPr b="0" lang="it-IT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Importo Richiesto / Ammesso / Storna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Fase 3 – Immissione importi in valore su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odifica degli importi calcolati in base alle percentual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NPS fornirà aggiornati il totale degli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importi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immessi e le percentuali calcolate (totale pianificato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arà quindi sempre possibile un confronto con gli obiettivi e del totale pianificato (in % ed in valor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i possono sempre modificare i singoli importi e/o le singole percentuali (con click sulla scheda %% si posiziona in immetti % e calcola sulla scheda valori e vicevers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una simulazione in corso, non definitiva, via via che si inseriscono i dati si dovà aggiornare il totale degli importi immessi con dettaglio suddivisione per cofinanziator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Fase 5 -  annualità :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serire il numero di annualità (da 1° a N) e la % per ognuna di esse (di default 100% / N. annualità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NPS calcolerà gli importi e le percentuali per ogni voce del piano finanziario / coofinanziatore / annualità e    il dettaglio annualit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nche in questo caso si potranno modificare  i valori o le percentuali, NPS controllerà che quanto pianificato nella fase precedente venga rispettato permettendo nell’ambito di ogni ente/coofinanziatore spostamenti tra le annualità evidenziando le variazioni con colore divers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 pianificazione terminata Nps permetterà di stampare un report finalizzato alla richiesta di finanziament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Presentazione PRG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(attività gestite)   e 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Approvazione del progett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ome dalle attuali funzionalità, quando il progetto sarà approvato il responsabile del progetto inserirà gli importi approvati ovvero riporterà sul richiesto le eventuali variazioni apportate dagli Ent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dicherà inoltre la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data di inizio progetto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e per ogni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annualità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: la data di inizio , la data di fi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 mesi di eventuale proroga (se non ci sono proroghe la d. fine proroga e quella di fine annualità coincideranno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NPS calcola la “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Data fine Proroga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” su cui si basa sempre per effettuare le ripartizioni nell’annualità di competenza (è inoltre possibile inserire direttamente una dat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n caso di inserimento dei mesi di proroga, NPS calcola la “Data di fine proroga” e adeguerà la data di inizio dell’annualità successiv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Dei dati iniziali pianificati, NPS conserverà, ai soli fini statistici, solo i totali di PRG mentre trasformerà il dettaglio in </a:t>
            </a:r>
            <a:r>
              <a:rPr b="1" lang="it-IT" sz="800" spc="-1" strike="noStrike">
                <a:solidFill>
                  <a:srgbClr val="000000"/>
                </a:solidFill>
                <a:latin typeface="Arial"/>
              </a:rPr>
              <a:t>dati approvati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Sarà inoltre possibile in ogni momento avere un report di riepilogo dei progetti di cui si attende l’approvazio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PagineHelp/CGE/cge_primanota.htm" TargetMode="External"/><Relationship Id="rId3" Type="http://schemas.openxmlformats.org/officeDocument/2006/relationships/hyperlink" Target="file:///../PagineHelp/CFP/cfp_ripcostiprgpnota.htm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hyperlink" Target="file:///../PagineHelp/CAN/can_prg_coof_RipAss.htm" TargetMode="External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319716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N G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zazioni  Non  Gov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4437000"/>
            <a:ext cx="64800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getti con cofinanziatori e più annualità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anificazione / Rendicontazione per obiettivi e/o per 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stion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di Decentrat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o  Unità Loc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240" y="219240"/>
            <a:ext cx="3273120" cy="1481040"/>
            <a:chOff x="219240" y="219240"/>
            <a:chExt cx="3273120" cy="1481040"/>
          </a:xfrm>
        </p:grpSpPr>
        <p:sp>
          <p:nvSpPr>
            <p:cNvPr id="48" name=""/>
            <p:cNvSpPr/>
            <p:nvPr/>
          </p:nvSpPr>
          <p:spPr>
            <a:xfrm>
              <a:off x="219240" y="1477440"/>
              <a:ext cx="326340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37320" y="219240"/>
              <a:ext cx="3155040" cy="113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653160" y="0"/>
            <a:ext cx="2490840" cy="685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72360" y="220500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623736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14172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19890000">
            <a:off x="4173480" y="1699920"/>
            <a:ext cx="234324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ew  ATTIVITA'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255564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% dei coofinanziatori vengono riproposti sul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nu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possibile variare i dati sia per coofinanziatore che per annu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280" y="4581360"/>
            <a:ext cx="896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A operativa 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%% di riga delle annualità sono calcolate su base 100 (somma delle tre annualità = 100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percentuali del Totale sono su base 100% di col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i modificano i dati della colonna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tale impor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i dati calcolati in base all’obiettiv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4278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580000" y="3789360"/>
            <a:ext cx="136692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292720" y="4292640"/>
            <a:ext cx="792000" cy="151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67640" y="1557360"/>
            <a:ext cx="100800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244000" y="1773000"/>
            <a:ext cx="144360" cy="30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013360"/>
            <a:ext cx="89647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“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 calcolato sarà diverso dall’ “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Obietti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 che potrà essere variato, in tal caso gli importi saranno ricalcol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4278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92360" y="2349360"/>
            <a:ext cx="216072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140360" y="2708280"/>
            <a:ext cx="576000" cy="26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5661000"/>
            <a:ext cx="8785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dati immessi per ogni conto di dettaglio del piano finanziario sono proposti in base alle percentuali degli obiettivi per annualità e coofinanzi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47800" y="0"/>
            <a:ext cx="6496200" cy="573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43640" y="2540160"/>
            <a:ext cx="720720" cy="215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80280" y="3468600"/>
            <a:ext cx="72072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1197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mpor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234936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nto di dettaglio (minusco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3413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rcentu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112536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nto di riepilogo (maiusco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5068800"/>
            <a:ext cx="1584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413000"/>
            <a:ext cx="3024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ogni conto di dettaglio, modificando le percentuali, saranno ricalcolati gli importi  e viceversa.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turalmente il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totale pianific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ropo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ò essere ulteriormente modifica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inserito se non pres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3640" y="561960"/>
            <a:ext cx="5940360" cy="5243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219640" y="2492280"/>
            <a:ext cx="720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2840" y="2517840"/>
            <a:ext cx="1055520" cy="6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660760"/>
            <a:ext cx="649080" cy="480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637000"/>
            <a:ext cx="4334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797360"/>
            <a:ext cx="6012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43280" y="387360"/>
            <a:ext cx="6300720" cy="5562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8964720" cy="27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no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modificabil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valori compresi nei rettangoli rosso, evidenziati da uno sfondo chia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 il Totale conto di dettaglio ed il totale per finanziatori escluso il primo rigo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Finanziamento O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46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ettaglio delle annualità escluso l’ultima che viene ricalco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modifiche apportate vengono salvate quando ci si sposta dalla c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03960" y="2676600"/>
            <a:ext cx="1152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2820960"/>
            <a:ext cx="72072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2460600"/>
            <a:ext cx="72072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19840" y="2676600"/>
            <a:ext cx="720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7840" y="2820960"/>
            <a:ext cx="4334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43680"/>
            <a:ext cx="2879640" cy="24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iteri di calcolo 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ultima annualità viene ricalcolata su base 100 di ri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ettaglio della colonna Totale, ricalcola l’apporto Finanziario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prima riga di dettagli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413000"/>
            <a:ext cx="309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obiettivo del prog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% ed impor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totale pianif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5243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140360" y="404640"/>
            <a:ext cx="5003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556000" y="549360"/>
            <a:ext cx="1655640" cy="107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124000" y="764640"/>
            <a:ext cx="223200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4149720"/>
            <a:ext cx="615636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9280" y="5805360"/>
            <a:ext cx="896472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vando l’icona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 Posizionandosi su una cella di dettagli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03640" y="417600"/>
            <a:ext cx="5940360" cy="52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32000" y="3789360"/>
            <a:ext cx="6012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093080" y="836640"/>
            <a:ext cx="71280" cy="518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5445000"/>
            <a:ext cx="896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ando l’icona “totali” e Posizionandosi su una cella di dettaglio, sono visibili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anific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coofinanziatori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524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2771640" y="4941720"/>
            <a:ext cx="1584360" cy="9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564000" y="4508280"/>
            <a:ext cx="0" cy="89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4581360"/>
            <a:ext cx="1440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5445000"/>
            <a:ext cx="896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ando l’icona “totali” e Posizionandosi su una cella di dettaglio, sono visibili il pianificat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coofinanziatori e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tale pianific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coofinanziatore della cella selezio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23960" y="4005360"/>
            <a:ext cx="3024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5243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75480" y="2508120"/>
            <a:ext cx="57636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858920" y="4508280"/>
            <a:ext cx="28908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8280" y="4317840"/>
            <a:ext cx="4832280" cy="247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76680" y="2508120"/>
            <a:ext cx="57636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4581360"/>
            <a:ext cx="1440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5867280" cy="4029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36360" y="0"/>
            <a:ext cx="3384360" cy="40464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ipartizione Prg e PF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20640"/>
            <a:ext cx="2987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la normale gestione, d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ima Not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l co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ò esser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iparti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 più progetti e conti del Piano Finanz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345360" y="1324080"/>
            <a:ext cx="2776320" cy="3598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96360" y="263700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90792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987640" y="2923920"/>
            <a:ext cx="4608720" cy="23050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2205000"/>
            <a:ext cx="3095640" cy="79236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35280" cy="40464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Pianificazione ONG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1    p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osti SIMULATI</a:t>
            </a:r>
            <a:endParaRPr b="0" i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443700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progetto inizia con l’anagrafica e prosegue con la previsione delle sp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ianificazione può essere fatta partendo da 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iet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 spesa in base alle precedenti esperi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ò proseguire passando per vari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AZIO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l costo complessivo per ogni conto del Piano Finanz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371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356000" cy="125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268280"/>
            <a:ext cx="435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3335400"/>
            <a:ext cx="2519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387680" y="2351160"/>
            <a:ext cx="2776680" cy="3598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76720" y="620640"/>
            <a:ext cx="5867280" cy="4029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36360" y="44280"/>
            <a:ext cx="7056360" cy="43200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i="1" lang="it-IT" sz="1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it-IT" sz="1400" spc="-1" strike="noStrike">
                <a:solidFill>
                  <a:srgbClr val="333399"/>
                </a:solidFill>
                <a:latin typeface="Arial"/>
              </a:rPr>
              <a:t>Ripartizione Prg e PF -</a:t>
            </a: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 ASSEGNAZIONE</a:t>
            </a: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 coofinanziatori e annua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20640"/>
            <a:ext cx="334800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a normale gestione, da Prima Nota il costo può essere ripartito su più progetti e conti del Piano Finanz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il progetto è con cofinanziatori e più annualità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attiva una sottoscheda in cui è possib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segn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osto ripartito ai cofinanziatori e alle annu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4000" y="429264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96360" y="249228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32360" y="90792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3933720"/>
            <a:ext cx="108108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3645000"/>
            <a:ext cx="4321080" cy="7920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5867280" cy="4029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36360" y="0"/>
            <a:ext cx="7416720" cy="40464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i="1" lang="it-IT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Ripartizione Prg e PF -</a:t>
            </a: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 ASSEGNAZIONE</a:t>
            </a: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 coofinanziatori e annua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360" y="620640"/>
            <a:ext cx="298764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a normale gestione, da Prima Nota il costo può essere ripartito su più progetti e conti del Piano Finanz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il progetto è di tipo ONG, si attiva una sottoscheda in cui è possibile assegnare il costo ripartito ai cofinanziato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’annualità proposta è quella relativa alla data di registrazione del mov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è relativa al periodo di una eventuale proroga, propone la spunta di tale peri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sistema propone le %% di assegnazione pianificate e poi ammesse per quel c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stesse possono essere modific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o visibil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n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tot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m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554280" y="3244680"/>
            <a:ext cx="2776680" cy="3598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11640" y="450864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249228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32360" y="907920"/>
            <a:ext cx="36036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71640" y="4365360"/>
            <a:ext cx="5256360" cy="19429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5877000"/>
            <a:ext cx="8893080" cy="576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OMA    -     TREVISO    -     PERUGIA                                   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ioiosa I.c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RC   Tel. 0964  41 22 66  Fax 41 23 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2431800" cy="290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43280" y="5300640"/>
            <a:ext cx="28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 Unicode MS"/>
              </a:rPr>
              <a:t>WWW.INNOVATIV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524720" y="5138640"/>
            <a:ext cx="1054080" cy="4780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2195640" y="1197000"/>
            <a:ext cx="4248000" cy="1984320"/>
            <a:chOff x="2195640" y="1197000"/>
            <a:chExt cx="4248000" cy="1984320"/>
          </a:xfrm>
        </p:grpSpPr>
        <p:sp>
          <p:nvSpPr>
            <p:cNvPr id="200" name=""/>
            <p:cNvSpPr/>
            <p:nvPr/>
          </p:nvSpPr>
          <p:spPr>
            <a:xfrm>
              <a:off x="2195640" y="2882880"/>
              <a:ext cx="42354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2349000" y="1197000"/>
              <a:ext cx="4094640" cy="1514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80000" cy="26028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ianificazione ON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per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sti SIMULATI  e  OBIETTIVI</a:t>
            </a:r>
            <a:endParaRPr b="0" i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3059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 Oppure diretta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ian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totale conto P.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32000" y="406440"/>
            <a:ext cx="6012000" cy="5543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484360" y="2204640"/>
            <a:ext cx="431964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80000" cy="26028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ianificazione ON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3 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per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sti SIMULATI  e  OBIETTIVI</a:t>
            </a:r>
            <a:endParaRPr b="0" i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3059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 Oppure diretta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ian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totale conto P.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quin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ofinanzia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406440"/>
            <a:ext cx="6012000" cy="554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2195640" y="2636640"/>
            <a:ext cx="143964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80000" cy="260280"/>
          </a:xfrm>
          <a:prstGeom prst="rect">
            <a:avLst/>
          </a:prstGeom>
          <a:solidFill>
            <a:srgbClr val="e5e4fe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ianificazione ON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per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osti SIMULATI  e  OBIETTIVI</a:t>
            </a:r>
            <a:endParaRPr b="0" i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23920"/>
            <a:ext cx="3059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 Oppure diretta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ian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totale conto P.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quin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ofinanzia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annua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406440"/>
            <a:ext cx="6012000" cy="554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1619280" y="1484280"/>
            <a:ext cx="6481800" cy="22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333360"/>
          </a:xfrm>
          <a:prstGeom prst="rect">
            <a:avLst/>
          </a:prstGeom>
          <a:solidFill>
            <a:srgbClr val="f9efc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Arial"/>
              </a:rPr>
              <a:t>Pianificazione ONG   - 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1   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per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ATTIVITA’</a:t>
            </a:r>
            <a:endParaRPr b="0" i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868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  che possono essere legati con il Piano Finanziario del Pro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95560" y="0"/>
            <a:ext cx="5248440" cy="4863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700280"/>
            <a:ext cx="3780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ianificazione per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IV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fare (attività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o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mane e material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4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determinan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80000" y="1916280"/>
            <a:ext cx="86328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3141720"/>
            <a:ext cx="27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3716280"/>
            <a:ext cx="1224000" cy="217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80000" y="4076640"/>
            <a:ext cx="388764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3357720"/>
            <a:ext cx="273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7667640" y="3284640"/>
            <a:ext cx="649440" cy="20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6516720" cy="4887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404640"/>
          </a:xfrm>
          <a:prstGeom prst="rect">
            <a:avLst/>
          </a:prstGeom>
          <a:solidFill>
            <a:srgbClr val="f9efc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66"/>
                </a:solidFill>
                <a:latin typeface="Arial"/>
              </a:rPr>
              <a:t>Pianificazione ONG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2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ianificazione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 pe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TTIVITA’</a:t>
            </a:r>
            <a:endParaRPr b="0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8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ronogramm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 diagramma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ant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) visualizza Attività, durata, risorse impegnate … e consente di riprogramm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186920" y="3500280"/>
            <a:ext cx="759780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IETTIV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pianificazione (totale pr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ota ONG com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nanzi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ota ONG com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pporto Benevolo valor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ota coofinanziator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Enti e/o 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ltre alle ANNUA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8480" y="1303200"/>
            <a:ext cx="8615520" cy="248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64000" y="692280"/>
            <a:ext cx="37087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628640"/>
            <a:ext cx="215892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549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ianificazione per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38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1268280"/>
            <a:ext cx="3780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26640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tat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izio P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nagrafica, e le annualità (nr. anni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cheda propone lo sviluppo tempor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si predispone a ricevere i mesi di pror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cui calcola la data di fine proroga (annualità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la data inizio dell’annualità succes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987640" y="1114560"/>
            <a:ext cx="6156360" cy="5699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3708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Arial"/>
              </a:rPr>
              <a:t>Implementazioni ONG      1.  Pianificazione per Obiet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09:42:52Z</dcterms:created>
  <dc:creator>Silvio Coluccio</dc:creator>
  <dc:description/>
  <dc:language>en-US</dc:language>
  <cp:lastModifiedBy>Silvio</cp:lastModifiedBy>
  <dcterms:modified xsi:type="dcterms:W3CDTF">2004-02-17T10:28:10Z</dcterms:modified>
  <cp:revision>35</cp:revision>
  <dc:subject/>
  <dc:title>Vuova gestione DOCUMENTI come flusso</dc:title>
</cp:coreProperties>
</file>