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B45-6EAD-4013-9B00-A6AC7BDB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23D-A620-467E-9F80-50E1B12D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659-210C-44DD-A1B0-32DC22BE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845-E002-4D06-BD78-0027710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215-0E5A-40D2-B127-A28221E2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8C5-F9EE-4199-A7C0-1723AD01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73C-24B0-4A37-84A1-1D41D41B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4B6-9212-4D00-9140-9D9CA97D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EFB-27C6-462E-8CDD-701A7173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FF4-6E15-41F2-A96D-3BE387B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E48-0B9E-4589-95DA-6AFA7EF8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E96-2A46-4521-8CE4-2008980E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9019-984D-4730-B1D5-7A32B3466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innovativi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565360"/>
            <a:ext cx="57610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Rilevazione costi ripart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e successivi pag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di costi che non generano scadenziario Forn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levazione costo e ripartizione sui PRG, CdC, Co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ampa report di verifica doc. ripartiti e non pa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gistrazione pagament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 Nr. Docum. = Nr. Rif.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ilevazione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240" y="219240"/>
            <a:ext cx="3273120" cy="1481040"/>
            <a:chOff x="219240" y="219240"/>
            <a:chExt cx="3273120" cy="1481040"/>
          </a:xfrm>
        </p:grpSpPr>
        <p:sp>
          <p:nvSpPr>
            <p:cNvPr id="43" name=""/>
            <p:cNvSpPr/>
            <p:nvPr/>
          </p:nvSpPr>
          <p:spPr>
            <a:xfrm>
              <a:off x="219240" y="1477440"/>
              <a:ext cx="32634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37320" y="219240"/>
              <a:ext cx="3155040" cy="113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48360" y="0"/>
            <a:ext cx="3095640" cy="575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5796000" y="2636640"/>
            <a:ext cx="93816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372360" y="5300280"/>
            <a:ext cx="72072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iettivo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dicontare i progetti rilevando i pagamenti dei documenti ripart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7178" t="23418" r="22689" b="26370"/>
          <a:stretch/>
        </p:blipFill>
        <p:spPr>
          <a:xfrm>
            <a:off x="900000" y="1697040"/>
            <a:ext cx="7920000" cy="4253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72360" y="2205000"/>
            <a:ext cx="1079280" cy="324000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4000" y="4076280"/>
            <a:ext cx="180000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:  Rendicontare i progetti rilevando i pagamenti dei documenti riparti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197000"/>
            <a:ext cx="896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 caso di pagame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nito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l collegamento tra la rilevazione del costo ed i relativi pagamenti sono tra loro legati in quanto gestiti dall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denzi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ndi dal/dai pagamento/i è possibile risalire al documento ripartito tramite lo scadenz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7178" t="23418" r="22689" b="26370"/>
          <a:stretch/>
        </p:blipFill>
        <p:spPr>
          <a:xfrm>
            <a:off x="1619280" y="2817720"/>
            <a:ext cx="7524720" cy="4040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04000" y="3284640"/>
            <a:ext cx="1008000" cy="3284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00000" y="4797000"/>
            <a:ext cx="180036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88000" y="2637000"/>
            <a:ext cx="216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7178" t="11608" r="30812" b="37199"/>
          <a:stretch/>
        </p:blipFill>
        <p:spPr>
          <a:xfrm>
            <a:off x="4716360" y="0"/>
            <a:ext cx="4427640" cy="274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920" y="3500280"/>
            <a:ext cx="432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le rilevazioni che non generano lo scadenziario occorre legare i movimenti di rilevazione costo (riparti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981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2565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ilevazione costo, Riparti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588000" y="2637000"/>
            <a:ext cx="216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7178" t="11608" r="30812" b="37199"/>
          <a:stretch/>
        </p:blipFill>
        <p:spPr>
          <a:xfrm>
            <a:off x="4716360" y="0"/>
            <a:ext cx="4427640" cy="274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920" y="3500280"/>
            <a:ext cx="432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le rilevazioni che non generano lo scadenziario occorre legare i movimenti di rilevazione costo (ripartit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 relativi pagamenti, inserendo nel documento il 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r. Rif.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a rile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981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4360" y="1557360"/>
            <a:ext cx="3816360" cy="374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35640" y="3905280"/>
            <a:ext cx="460836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19640" y="4653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24360" y="1557360"/>
            <a:ext cx="648000" cy="30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2565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ilevazione costo, Riparti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3573360"/>
            <a:ext cx="1008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gamen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588000" y="2637000"/>
            <a:ext cx="216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7178" t="11608" r="30812" b="37199"/>
          <a:stretch/>
        </p:blipFill>
        <p:spPr>
          <a:xfrm>
            <a:off x="4716360" y="0"/>
            <a:ext cx="4427640" cy="2741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920" y="3500280"/>
            <a:ext cx="432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le rilevazioni che non generano lo scadenziario occorre legare i movimenti di rilevazione costo (ripartit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 i relativi pagamenti, inserendo nel documento di pagamento il “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r. Rif.”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lla rilev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l campo “Nr. Documen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981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35640" y="3905280"/>
            <a:ext cx="4608360" cy="295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19640" y="4653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24360" y="1557360"/>
            <a:ext cx="648000" cy="30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2565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ilevazione costo, Riparti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3573360"/>
            <a:ext cx="1008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gamen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76720" y="5084280"/>
            <a:ext cx="201600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62064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report consente di gestire i pagamenti delle rilevazioni ripartite sui PRG e di fleggare la ripartizione con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r. Rif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documento che i report dei rendiconti leggeranno al posto del partitario forn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816360" cy="3198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01080" y="422100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1268280"/>
            <a:ext cx="4105080" cy="331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951440"/>
            <a:ext cx="8497800" cy="190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71640" y="981000"/>
            <a:ext cx="287280" cy="504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5877000"/>
            <a:ext cx="2431800" cy="36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6021360"/>
            <a:ext cx="2879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WWW.INNOVATIVI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nps@innovativ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524720" y="5857920"/>
            <a:ext cx="1054080" cy="4777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611280" y="476280"/>
            <a:ext cx="3994200" cy="1841400"/>
            <a:chOff x="611280" y="476280"/>
            <a:chExt cx="3994200" cy="1841400"/>
          </a:xfrm>
        </p:grpSpPr>
        <p:sp>
          <p:nvSpPr>
            <p:cNvPr id="98" name=""/>
            <p:cNvSpPr/>
            <p:nvPr/>
          </p:nvSpPr>
          <p:spPr>
            <a:xfrm>
              <a:off x="611280" y="2040840"/>
              <a:ext cx="3982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755640" y="476280"/>
              <a:ext cx="3849840" cy="1405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8:44:45Z</dcterms:created>
  <dc:creator>Admin</dc:creator>
  <dc:description/>
  <dc:language>en-US</dc:language>
  <cp:lastModifiedBy>Administrator</cp:lastModifiedBy>
  <dcterms:modified xsi:type="dcterms:W3CDTF">2004-04-07T16:09:59Z</dcterms:modified>
  <cp:revision>66</cp:revision>
  <dc:subject/>
  <dc:title>NPS -  Implementazioni ONG</dc:title>
</cp:coreProperties>
</file>