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2C42-9951-4315-9B4D-FD0CF8A5F61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 SINTESI : 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Una chiara interfaccia tra la busta paga e la prima nota con la generazione della scadenza del dipendente o collaboratore (Risorsa) e dei relativi tributi oltre naturalmente della prima nota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versione 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 seguito delle implementazioni introdotte nella gestione dello </a:t>
            </a: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cadenziario erario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e in riferimento alle causali con il doppio flag su gestione e genera scadenziario erario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è stata introdotta con la versione 6.3.9 (beta) una scheda di rilevazione semplice, veloce e a vari livelli di automatismo, degli stipendi, con Tributi di vario tipo e relative scadenze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 SINTESI : 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Una chiara interfaccia tra la busta paga e la prima nota con la generazione della scadenza del dipendente o collaboratore (Risorsa) e dei relativi tributi oltre naturalmente della prima nota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versione 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 seguito delle implementazioni introdotte nella gestione dello </a:t>
            </a: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cadenziario erario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e in riferimento alle causali con il doppio flag su gestione e genera scadenziario erario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è stata introdotta con la versione 6.3.9 (beta) una scheda di rilevazione semplice, veloce e a vari livelli di automatismo, degli stipendi, con Tributi di vario tipo e relative scadenze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../../Programmi/NPS/HELP/Presentaz_TDemo/Pianif_Contratti_Ordini/Pianif_Contratti_Ordini.htm" TargetMode="External"/><Relationship Id="rId3" Type="http://schemas.openxmlformats.org/officeDocument/2006/relationships/hyperlink" Target="file:///../../Programmi/NPS/HELP/Presentaz_TDemo/Pianif_Contratti_Ordini/Pianif_Contratti_Ordini.htm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696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32720" y="76500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laborazione con il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724280"/>
            <a:ext cx="785016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2900"/>
                </a:solidFill>
                <a:latin typeface="Arial"/>
              </a:rPr>
              <a:t>La pianificazione per ATTIVITA’</a:t>
            </a:r>
            <a:r>
              <a:rPr b="0" lang="en-US" sz="3600" spc="-1" strike="noStrike">
                <a:solidFill>
                  <a:srgbClr val="d62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2900"/>
                </a:solidFill>
                <a:latin typeface="Arial"/>
              </a:rPr>
              <a:t>con RISORSE, Fornitori e Merce/Serv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Versione  6 . 7. 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8000" y="117360"/>
            <a:ext cx="4968720" cy="3672000"/>
            <a:chOff x="108000" y="117360"/>
            <a:chExt cx="4968720" cy="36720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rcRect l="0" t="0" r="0" b="-489"/>
            <a:stretch/>
          </p:blipFill>
          <p:spPr>
            <a:xfrm>
              <a:off x="108000" y="117360"/>
              <a:ext cx="4933080" cy="36720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50" name=""/>
            <p:cNvSpPr/>
            <p:nvPr/>
          </p:nvSpPr>
          <p:spPr>
            <a:xfrm>
              <a:off x="2484360" y="3573720"/>
              <a:ext cx="2592360" cy="1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696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732720" y="76500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llaborazione con il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4724280"/>
            <a:ext cx="785016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2900"/>
                </a:solidFill>
                <a:latin typeface="Arial"/>
              </a:rPr>
              <a:t>La pianificazione per ATTIVITA’</a:t>
            </a:r>
            <a:r>
              <a:rPr b="0" lang="en-US" sz="3600" spc="-1" strike="noStrike">
                <a:solidFill>
                  <a:srgbClr val="d62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2900"/>
                </a:solidFill>
                <a:latin typeface="Arial"/>
              </a:rPr>
              <a:t>con RISORSE, Fornitori e Merce/Serv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Versione  6 . 7. 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8000" y="117360"/>
            <a:ext cx="4968720" cy="3672000"/>
            <a:chOff x="108000" y="117360"/>
            <a:chExt cx="4968720" cy="367200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rcRect l="0" t="0" r="0" b="-489"/>
            <a:stretch/>
          </p:blipFill>
          <p:spPr>
            <a:xfrm>
              <a:off x="108000" y="117360"/>
              <a:ext cx="4933080" cy="36720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119" name=""/>
            <p:cNvSpPr/>
            <p:nvPr/>
          </p:nvSpPr>
          <p:spPr>
            <a:xfrm>
              <a:off x="2484360" y="3573720"/>
              <a:ext cx="2592360" cy="1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35640" cy="404640"/>
          </a:xfrm>
          <a:prstGeom prst="rect">
            <a:avLst/>
          </a:prstGeom>
          <a:solidFill>
            <a:srgbClr val="ecf7e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getto ATTIVITA’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ollegato ad un Prg Piano Finanziario  - 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 Pianificazione per ATTIVIT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4508640"/>
            <a:ext cx="87850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ripartizioni possono essere effettuate direttamente sui conti del piano finanziario e7o sulle attivi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otterranno così rendiconti in base al piano finanziario ed alle attività realizz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4067280" y="404640"/>
            <a:ext cx="4946400" cy="3554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24360" y="620640"/>
            <a:ext cx="1584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836640"/>
            <a:ext cx="388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o o più progetti “ATTIVITA’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ono essere collegati con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G “Piano Finanziari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40" indent="-50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attività possono essere collegate ad un conto di dettaglio del Piano Finanziario del PRG colleg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203640" y="907560"/>
            <a:ext cx="86364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059280" y="3213000"/>
            <a:ext cx="424944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35640" cy="404640"/>
          </a:xfrm>
          <a:prstGeom prst="rect">
            <a:avLst/>
          </a:prstGeom>
          <a:solidFill>
            <a:srgbClr val="ecf7e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getto ATTIVITA’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ollegato ad un Prg Piano Finanziario  - 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 Pianificazione per ATTIVIT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443700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che alle Attività possono essere collegate con le Risorse umane (vedi anagrafiche risorse) e/o materiali (artt. di magazzi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68280"/>
            <a:ext cx="435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67280" y="404640"/>
            <a:ext cx="4946400" cy="3554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1131840"/>
            <a:ext cx="5976720" cy="2697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2276640"/>
            <a:ext cx="576360" cy="21564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19360" y="1628640"/>
            <a:ext cx="576360" cy="144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35640" cy="404640"/>
          </a:xfrm>
          <a:prstGeom prst="rect">
            <a:avLst/>
          </a:prstGeom>
          <a:solidFill>
            <a:srgbClr val="ecf7e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getto ATTIVITA’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ollegato ad un Prg Piano Finanziario  - 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 Pianificazione per ATTIVIT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4797000"/>
            <a:ext cx="8785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data inizio e dura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tenendo così il COSTO dell’ ATTIVITA’ pianifi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435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314760" cy="286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27280" y="404640"/>
            <a:ext cx="5616720" cy="2533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2708280"/>
            <a:ext cx="503280" cy="21600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1484280"/>
            <a:ext cx="503280" cy="21600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484280"/>
            <a:ext cx="1008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2637000"/>
            <a:ext cx="863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036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112920"/>
            <a:ext cx="1512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2010960"/>
            <a:ext cx="505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619280" y="3716280"/>
            <a:ext cx="2160720" cy="115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35640" cy="404640"/>
          </a:xfrm>
          <a:prstGeom prst="rect">
            <a:avLst/>
          </a:prstGeom>
          <a:solidFill>
            <a:srgbClr val="ecf7e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getto ATTIVITA’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ollegato ad un Prg Piano Finanziario  - 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 Pianificazione per ATTIVITA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560" y="4292640"/>
            <a:ext cx="4537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RONOGRAMMA (Gantt) perm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 di “vedere” la pi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 di modificarla spostando le barre, accorciandole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68280"/>
            <a:ext cx="435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57360" y="404640"/>
            <a:ext cx="7586640" cy="3770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16360" y="3860640"/>
            <a:ext cx="4248360" cy="1928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47640" y="1628640"/>
            <a:ext cx="331164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88000" y="4149720"/>
            <a:ext cx="2303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435640" y="4797360"/>
            <a:ext cx="216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6021360"/>
            <a:ext cx="78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e dal Gantt è possibile aprire gli INDICATORI e la scheda NOTE sincronizzati con le 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923080" y="5444640"/>
            <a:ext cx="360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012000" y="907560"/>
            <a:ext cx="647640" cy="496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88000" y="981000"/>
            <a:ext cx="28908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Pianificazione per ATTIVITA’  ver  6.7.20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349360"/>
            <a:ext cx="8640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BIETTIVO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anificare per ATTIVITA’ a cui colleg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isorse e fornitori con le relative merce o servi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data di inizio attività e la durata con la data di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l collegamento delle attiv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468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utilizzo delle Risorse (lavo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581200" cy="1792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24360" y="5373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edi anche  “ Pianificazione, Contratti, Ordin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ianificazione per ATTIVITA’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59280" y="260280"/>
            <a:ext cx="5889600" cy="6193080"/>
            <a:chOff x="3059280" y="260280"/>
            <a:chExt cx="5889600" cy="619308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3059280" y="260280"/>
              <a:ext cx="5889600" cy="61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486600" y="3912480"/>
              <a:ext cx="388440" cy="1866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9280" y="981000"/>
            <a:ext cx="1944720" cy="43200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130203"/>
              <a:gd name="adj5" fmla="val 111763"/>
              <a:gd name="adj6" fmla="val 157467"/>
            </a:avLst>
          </a:prstGeom>
          <a:solidFill>
            <a:srgbClr val="fefbc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1700280"/>
            <a:ext cx="1368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215662"/>
              <a:gd name="adj5" fmla="val -45814"/>
              <a:gd name="adj6" fmla="val 330509"/>
            </a:avLst>
          </a:prstGeom>
          <a:solidFill>
            <a:srgbClr val="fefbc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ianificazione per ATTIVITA’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260280"/>
            <a:ext cx="5889600" cy="6193080"/>
            <a:chOff x="3059280" y="260280"/>
            <a:chExt cx="5889600" cy="61930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3059280" y="260280"/>
              <a:ext cx="5889600" cy="61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486600" y="3912480"/>
              <a:ext cx="388440" cy="1866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79280" y="3376440"/>
            <a:ext cx="2664000" cy="557280"/>
          </a:xfrm>
          <a:prstGeom prst="borderCallout2">
            <a:avLst>
              <a:gd name="adj1" fmla="val 18750"/>
              <a:gd name="adj2" fmla="val -8333"/>
              <a:gd name="adj3" fmla="val 20513"/>
              <a:gd name="adj4" fmla="val 129620"/>
              <a:gd name="adj5" fmla="val 110254"/>
              <a:gd name="adj6" fmla="val 138736"/>
            </a:avLst>
          </a:prstGeom>
          <a:solidFill>
            <a:srgbClr val="fefbc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risorsa TEC ha un Lavoro con giorni in cui fa due at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ianificazione per ATTIVITA’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59280" y="260280"/>
            <a:ext cx="5889600" cy="6193080"/>
            <a:chOff x="3059280" y="260280"/>
            <a:chExt cx="5889600" cy="61930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059280" y="260280"/>
              <a:ext cx="5889600" cy="61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486600" y="3912480"/>
              <a:ext cx="388440" cy="1866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79280" y="5118120"/>
            <a:ext cx="2664000" cy="557280"/>
          </a:xfrm>
          <a:prstGeom prst="borderCallout2">
            <a:avLst>
              <a:gd name="adj1" fmla="val 18750"/>
              <a:gd name="adj2" fmla="val -8333"/>
              <a:gd name="adj3" fmla="val 20513"/>
              <a:gd name="adj4" fmla="val 114004"/>
              <a:gd name="adj5" fmla="val 178634"/>
              <a:gd name="adj6" fmla="val 146305"/>
            </a:avLst>
          </a:prstGeom>
          <a:solidFill>
            <a:srgbClr val="fefbc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risorsa TEC ed il Servizio per l’attività 01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09:42:52Z</dcterms:created>
  <dc:creator>Silvio Coluccio</dc:creator>
  <dc:description/>
  <dc:language>en-US</dc:language>
  <cp:lastModifiedBy>CSilvio</cp:lastModifiedBy>
  <dcterms:modified xsi:type="dcterms:W3CDTF">2006-07-20T11:25:27Z</dcterms:modified>
  <cp:revision>40</cp:revision>
  <dc:subject/>
  <dc:title>Vuova gestione DOCUMENTI come flusso</dc:title>
</cp:coreProperties>
</file>