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E7A3-A150-4D04-A348-792EB7E2993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In SINTESI : 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Una chiara interfaccia tra la busta paga e la prima nota con la generazione della scadenza del dipendente o collaboratore (Risorsa) e dei relativi tributi oltre naturalmente della prima nota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versione B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 seguito delle implementazioni introdotte nella gestione dello </a:t>
            </a:r>
            <a:r>
              <a:rPr b="0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scadenziario erario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e in riferimento alle causali con il doppio flag su gestione e genera scadenziario erario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è stata introdotta con la versione 6.3.9 (beta) una scheda di rilevazione semplice, veloce e a vari livelli di automatismo, degli stipendi, con Tributi di vario tipo e relative scadenze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In SINTESI : 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Una chiara interfaccia tra la busta paga e la prima nota con la generazione della scadenza del dipendente o collaboratore (Risorsa) e dei relativi tributi oltre naturalmente della prima nota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versione B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 seguito delle implementazioni introdotte nella gestione dello </a:t>
            </a:r>
            <a:r>
              <a:rPr b="0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scadenziario erario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e in riferimento alle causali con il doppio flag su gestione e genera scadenziario erario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è stata introdotta con la versione 6.3.9 (beta) una scheda di rilevazione semplice, veloce e a vari livelli di automatismo, degli stipendi, con Tributi di vario tipo e relative scadenze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../../Programmi/NPS/HELP/Presentaz_TDemo/Pianif_Contratti_Ordini/Pianif_Contratti_Ordini.htm" TargetMode="External"/><Relationship Id="rId3" Type="http://schemas.openxmlformats.org/officeDocument/2006/relationships/hyperlink" Target="file:///../../Programmi/NPS/HELP/Presentaz_TDemo/Pianif_Contratti_Ordini/Pianif_Contratti_Ordini.htm" TargetMode="External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696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32720" y="765000"/>
            <a:ext cx="24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llaborazione con il Part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724280"/>
            <a:ext cx="785016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2900"/>
                </a:solidFill>
                <a:latin typeface="Arial"/>
              </a:rPr>
              <a:t>La pianificazione per ATTIVITA’</a:t>
            </a:r>
            <a:r>
              <a:rPr b="0" lang="en-US" sz="3600" spc="-1" strike="noStrike">
                <a:solidFill>
                  <a:srgbClr val="d62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2900"/>
                </a:solidFill>
                <a:latin typeface="Arial"/>
              </a:rPr>
              <a:t>con RISORSE, Fornitori e Merce/Servi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Versione  6 . 7.  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8000" y="117360"/>
            <a:ext cx="4968720" cy="3672000"/>
            <a:chOff x="108000" y="117360"/>
            <a:chExt cx="4968720" cy="3672000"/>
          </a:xfrm>
        </p:grpSpPr>
        <p:pic>
          <p:nvPicPr>
            <p:cNvPr id="49" name="" descr=""/>
            <p:cNvPicPr/>
            <p:nvPr/>
          </p:nvPicPr>
          <p:blipFill>
            <a:blip r:embed="rId2"/>
            <a:srcRect l="0" t="0" r="0" b="-489"/>
            <a:stretch/>
          </p:blipFill>
          <p:spPr>
            <a:xfrm>
              <a:off x="108000" y="117360"/>
              <a:ext cx="4933080" cy="36720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50" name=""/>
            <p:cNvSpPr/>
            <p:nvPr/>
          </p:nvSpPr>
          <p:spPr>
            <a:xfrm>
              <a:off x="2484360" y="3573720"/>
              <a:ext cx="2592360" cy="14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696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732720" y="765000"/>
            <a:ext cx="24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llaborazione con il Part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4724280"/>
            <a:ext cx="785016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2900"/>
                </a:solidFill>
                <a:latin typeface="Arial"/>
              </a:rPr>
              <a:t>La pianificazione per ATTIVITA’</a:t>
            </a:r>
            <a:r>
              <a:rPr b="0" lang="en-US" sz="3600" spc="-1" strike="noStrike">
                <a:solidFill>
                  <a:srgbClr val="d62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2900"/>
                </a:solidFill>
                <a:latin typeface="Arial"/>
              </a:rPr>
              <a:t>con RISORSE, Fornitori e Merce/Servi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Versione  6 . 7.  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08000" y="117360"/>
            <a:ext cx="4968720" cy="3672000"/>
            <a:chOff x="108000" y="117360"/>
            <a:chExt cx="4968720" cy="367200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rcRect l="0" t="0" r="0" b="-489"/>
            <a:stretch/>
          </p:blipFill>
          <p:spPr>
            <a:xfrm>
              <a:off x="108000" y="117360"/>
              <a:ext cx="4933080" cy="36720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119" name=""/>
            <p:cNvSpPr/>
            <p:nvPr/>
          </p:nvSpPr>
          <p:spPr>
            <a:xfrm>
              <a:off x="2484360" y="3573720"/>
              <a:ext cx="2592360" cy="14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35640" cy="404640"/>
          </a:xfrm>
          <a:prstGeom prst="rect">
            <a:avLst/>
          </a:prstGeom>
          <a:solidFill>
            <a:srgbClr val="ecf7eb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ogetto ATTIVITA’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collegato ad un Prg Piano Finanziario  -  </a:t>
            </a: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  Pianificazione per ATTIVITA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1</a:t>
            </a:r>
            <a:endParaRPr b="0" i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7640" y="4508640"/>
            <a:ext cx="878508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ripartizioni possono essere effettuate direttamente sui conti del piano finanziario e7o sulle attività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 otterranno così rendiconti in base al piano finanziario ed alle attività realizz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3335400"/>
            <a:ext cx="2519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>
            <a:lum contrast="-10000"/>
          </a:blip>
          <a:stretch/>
        </p:blipFill>
        <p:spPr>
          <a:xfrm>
            <a:off x="4067280" y="404640"/>
            <a:ext cx="4946400" cy="3554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24360" y="620640"/>
            <a:ext cx="158436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836640"/>
            <a:ext cx="3887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5040" indent="-50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o o più progetti “ATTIVITA’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40" indent="-50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ono essere collegati con 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40" indent="-50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G “Piano Finanziari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40" indent="-50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40" indent="-50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attività possono essere collegate ad un conto di dettaglio del Piano Finanziario del PRG colleg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203640" y="907560"/>
            <a:ext cx="86364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059280" y="3213000"/>
            <a:ext cx="424944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35640" cy="404640"/>
          </a:xfrm>
          <a:prstGeom prst="rect">
            <a:avLst/>
          </a:prstGeom>
          <a:solidFill>
            <a:srgbClr val="ecf7eb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ogetto ATTIVITA’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collegato ad un Prg Piano Finanziario  -  </a:t>
            </a: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  Pianificazione per ATTIVITA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1</a:t>
            </a:r>
            <a:endParaRPr b="0" i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4437000"/>
            <a:ext cx="8785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nche alle Attività possono essere collegate con le Risorse umane (vedi anagrafiche risorse) e/o materiali (artt. di magazzi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68280"/>
            <a:ext cx="43560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3335400"/>
            <a:ext cx="2519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067280" y="404640"/>
            <a:ext cx="4946400" cy="3554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0920" y="1131840"/>
            <a:ext cx="5976720" cy="2697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2276640"/>
            <a:ext cx="576360" cy="21564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19360" y="1628640"/>
            <a:ext cx="576360" cy="14472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35640" cy="404640"/>
          </a:xfrm>
          <a:prstGeom prst="rect">
            <a:avLst/>
          </a:prstGeom>
          <a:solidFill>
            <a:srgbClr val="ecf7eb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ogetto ATTIVITA’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collegato ad un Prg Piano Finanziario  -  </a:t>
            </a: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  Pianificazione per ATTIVITA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1</a:t>
            </a:r>
            <a:endParaRPr b="0" i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4797000"/>
            <a:ext cx="8785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data inizio e durat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tenendo così il COSTO dell’ ATTIVITA’ pianific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68280"/>
            <a:ext cx="43560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3335400"/>
            <a:ext cx="2519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6314760" cy="2867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27280" y="404640"/>
            <a:ext cx="5616720" cy="2533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2708280"/>
            <a:ext cx="503280" cy="21600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67280" y="1484280"/>
            <a:ext cx="503280" cy="21600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1484280"/>
            <a:ext cx="1008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2637000"/>
            <a:ext cx="86364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80360" y="3141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6000" y="3112920"/>
            <a:ext cx="1512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7451280" y="2010960"/>
            <a:ext cx="5050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1619280" y="3716280"/>
            <a:ext cx="2160720" cy="1152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35640" cy="404640"/>
          </a:xfrm>
          <a:prstGeom prst="rect">
            <a:avLst/>
          </a:prstGeom>
          <a:solidFill>
            <a:srgbClr val="ecf7eb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ogetto ATTIVITA’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collegato ad un Prg Piano Finanziario  -  </a:t>
            </a: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  Pianificazione per ATTIVITA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1</a:t>
            </a:r>
            <a:endParaRPr b="0" i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560" y="4292640"/>
            <a:ext cx="4537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CRONOGRAMMA (Gantt) permet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a di “vedere” la pian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a di modificarla spostando le barre, accorciandole, e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268280"/>
            <a:ext cx="43560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3335400"/>
            <a:ext cx="2519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57360" y="404640"/>
            <a:ext cx="7586640" cy="3770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716360" y="3860640"/>
            <a:ext cx="4248360" cy="1928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47640" y="1628640"/>
            <a:ext cx="331164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88000" y="4149720"/>
            <a:ext cx="230364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5435640" y="4797360"/>
            <a:ext cx="21600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6021360"/>
            <a:ext cx="78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he dal Gantt è possibile aprire gli INDICATORI e la scheda NOTE sincronizzati con le a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923080" y="5444640"/>
            <a:ext cx="36036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012000" y="907560"/>
            <a:ext cx="647640" cy="496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588000" y="981000"/>
            <a:ext cx="28908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Pianificazione per ATTIVITA’  ver  6.7.20</a:t>
            </a: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2349360"/>
            <a:ext cx="8640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BIETTIVO 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468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ianificare per ATTIVITA’ a cui colleg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468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isorse e fornitori con le relative merce o servi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468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 data di inizio attività e la durata con la data di f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468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l collegamento delle attivit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468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’utilizzo delle Risorse (lavo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372360" y="189000"/>
            <a:ext cx="2581200" cy="1792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24360" y="537372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edi anche  “ Pianificazione, Contratti, Ordin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ianificazione per ATTIVITA’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59280" y="260280"/>
            <a:ext cx="5889600" cy="6193080"/>
            <a:chOff x="3059280" y="260280"/>
            <a:chExt cx="5889600" cy="619308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3059280" y="260280"/>
              <a:ext cx="5889600" cy="619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486600" y="3912480"/>
              <a:ext cx="388440" cy="1866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79280" y="981000"/>
            <a:ext cx="1944720" cy="432000"/>
          </a:xfrm>
          <a:prstGeom prst="borderCallout2">
            <a:avLst>
              <a:gd name="adj1" fmla="val 18750"/>
              <a:gd name="adj2" fmla="val -8333"/>
              <a:gd name="adj3" fmla="val 26472"/>
              <a:gd name="adj4" fmla="val 130203"/>
              <a:gd name="adj5" fmla="val 111763"/>
              <a:gd name="adj6" fmla="val 157467"/>
            </a:avLst>
          </a:prstGeom>
          <a:solidFill>
            <a:srgbClr val="fefbc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IV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1700280"/>
            <a:ext cx="13683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215662"/>
              <a:gd name="adj5" fmla="val -45814"/>
              <a:gd name="adj6" fmla="val 330509"/>
            </a:avLst>
          </a:prstGeom>
          <a:solidFill>
            <a:srgbClr val="fefbc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ianificazione per ATTIVITA’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59280" y="260280"/>
            <a:ext cx="5889600" cy="6193080"/>
            <a:chOff x="3059280" y="260280"/>
            <a:chExt cx="5889600" cy="619308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3059280" y="260280"/>
              <a:ext cx="5889600" cy="619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486600" y="3912480"/>
              <a:ext cx="388440" cy="1866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79280" y="3376440"/>
            <a:ext cx="2664000" cy="557280"/>
          </a:xfrm>
          <a:prstGeom prst="borderCallout2">
            <a:avLst>
              <a:gd name="adj1" fmla="val 18750"/>
              <a:gd name="adj2" fmla="val -8333"/>
              <a:gd name="adj3" fmla="val 20513"/>
              <a:gd name="adj4" fmla="val 129620"/>
              <a:gd name="adj5" fmla="val 110254"/>
              <a:gd name="adj6" fmla="val 138736"/>
            </a:avLst>
          </a:prstGeom>
          <a:solidFill>
            <a:srgbClr val="fefbc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risorsa TEC ha un Lavoro con giorni in cui fa due attiv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ianificazione per ATTIVITA’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59280" y="260280"/>
            <a:ext cx="5889600" cy="6193080"/>
            <a:chOff x="3059280" y="260280"/>
            <a:chExt cx="5889600" cy="619308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3059280" y="260280"/>
              <a:ext cx="5889600" cy="619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486600" y="3912480"/>
              <a:ext cx="388440" cy="1866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79280" y="5118120"/>
            <a:ext cx="2664000" cy="557280"/>
          </a:xfrm>
          <a:prstGeom prst="borderCallout2">
            <a:avLst>
              <a:gd name="adj1" fmla="val 18750"/>
              <a:gd name="adj2" fmla="val -8333"/>
              <a:gd name="adj3" fmla="val 20513"/>
              <a:gd name="adj4" fmla="val 114004"/>
              <a:gd name="adj5" fmla="val 178634"/>
              <a:gd name="adj6" fmla="val 146305"/>
            </a:avLst>
          </a:prstGeom>
          <a:solidFill>
            <a:srgbClr val="fefbc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risorsa TEC ed il Servizio per l’attività 01.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9T09:42:52Z</dcterms:created>
  <dc:creator>Silvio Coluccio</dc:creator>
  <dc:description/>
  <dc:language>en-US</dc:language>
  <cp:lastModifiedBy>CSilvio</cp:lastModifiedBy>
  <dcterms:modified xsi:type="dcterms:W3CDTF">2006-07-20T11:25:27Z</dcterms:modified>
  <cp:revision>40</cp:revision>
  <dc:subject/>
  <dc:title>Vuova gestione DOCUMENTI come flusso</dc:title>
</cp:coreProperties>
</file>