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AA4-5988-4AA8-AB5F-4C9106A9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A9C-5436-4488-AD6E-FFB7507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147-D379-40CC-8212-B63A56B3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6F2-61C0-4AB0-803A-DEC731DC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538-9376-422D-82CD-A45F881D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2F1-EDDA-4218-B704-2D60C5FB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6CB-F0EA-44BF-9897-AD98F53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851-A09A-4693-8572-BA4021C0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DF4-CDAE-4B18-BD43-4487417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ACE-393C-4C9C-9D87-F472FD3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37C-E28A-45F6-AB12-7CD4648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270-D739-45AE-AF3B-B2AD565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CA2-911A-4894-AFC0-07924FC6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37000"/>
            <a:ext cx="561636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EDI DECENTRATE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o UNITA’ 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Sede Principale   -   Sede Intermedia  -   SEDE DECENT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vio dati contabili con ripartizioni e assegn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ezione, sincronizzazione, modifica e restit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vio/ricezione proget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rendicontare anche per quota di compe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pagamenti per protocollo mandati ricev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0080" y="0"/>
            <a:ext cx="2293920" cy="659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6588000" y="549360"/>
            <a:ext cx="64944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516720" y="4076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443640" y="6453360"/>
            <a:ext cx="57780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7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437000"/>
            <a:ext cx="896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Bilancio della Sede con tutti i movimenti delle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ppur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ltrato sulla Sede Principale o su ogni Unità loc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338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97360" y="0"/>
            <a:ext cx="434664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>
            <a:off x="324000" y="1052640"/>
            <a:ext cx="0" cy="47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6192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RAMETRI   Sede Princip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Azienda (sch. “Altri dati” -  tipo sede: Princip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U L (Inserire le Unità locali gest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 -  Cont. gen. : Registri IVA, inserire per ogni U.L. almeno un reg. IVA acquisti ed eventualmente uno vendita  (vedi suffisso esempio “.01” - Unità locale in Equ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Unità Locali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graf. Azienda (sch. “Altri dati” -  tipo sede: U.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 -  Cont. gen. : Registri IVA, inserire almeno un reg. IVA acquisti ed eventualmente uno vendita  (vedi suffisso esempio “.01 - Unità locale in Equ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ametri generali  -  numeratori non fiscali : inserire il suffisso Numero Riferimento movim. contabili (es..  “.01”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92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Parame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0080" y="0"/>
            <a:ext cx="2293920" cy="659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6588000" y="549360"/>
            <a:ext cx="64944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16720" y="4076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43640" y="6453360"/>
            <a:ext cx="57780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77000"/>
            <a:ext cx="8893080" cy="576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MA    -     TREVISO    -     PERUGIA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ioiosa I.c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RC   Tel. 0964  41 22 66  Fax 41 23 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2431800" cy="290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43280" y="5300640"/>
            <a:ext cx="28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WWW.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24720" y="5138640"/>
            <a:ext cx="1054080" cy="4780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195640" y="1197000"/>
            <a:ext cx="4248000" cy="1984320"/>
            <a:chOff x="2195640" y="1197000"/>
            <a:chExt cx="4248000" cy="1984320"/>
          </a:xfrm>
        </p:grpSpPr>
        <p:sp>
          <p:nvSpPr>
            <p:cNvPr id="100" name=""/>
            <p:cNvSpPr/>
            <p:nvPr/>
          </p:nvSpPr>
          <p:spPr>
            <a:xfrm>
              <a:off x="2195640" y="2882880"/>
              <a:ext cx="423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349000" y="1197000"/>
              <a:ext cx="4094640" cy="1514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15200" y="0"/>
            <a:ext cx="272880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d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tà L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iodicamente (propone il mese precedente), l’U.L. predispone il file da inviare alla Principale.                 Il file viene salvato su una cartella predefin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35280" y="404280"/>
            <a:ext cx="288144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15200" y="0"/>
            <a:ext cx="2728800" cy="364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d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tà Lo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iodicamente (propone il mese precedente), l’U.L. predispone il file da inviare alla Sede Intermedia o Principale.  Il file viene salvato su una cartella predefin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48360" y="2707920"/>
            <a:ext cx="136836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  Invio / Ricezione Dati da U.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557360"/>
            <a:ext cx="5545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vio dati contabili visti dal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d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ati ricevuti sono sincronizzati nel D.B. della sede principale (o Intermedia), eventualmente correti e quindi rrstituiti alla U.L. di compe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51520" y="2637000"/>
            <a:ext cx="3114720" cy="41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00720" y="4005360"/>
            <a:ext cx="1655640" cy="93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Ricezione dati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125360"/>
            <a:ext cx="5256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ezione dati dalla SE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EDE Principale (o Intermedia) riceve e sincronizza i dati della U.L. con i propri, pur mantenendo l’origine per le stampe cont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abora i movimenti acquisiti (eventualmente filtrati per U.L.), effettua eventuali corre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3280" y="1267920"/>
            <a:ext cx="8654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-27000"/>
            <a:ext cx="3528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Ricezione dati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125360"/>
            <a:ext cx="5256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ezione dati dalla SE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EDE Principale (o Intermedia) riceve e sincronizza i dati della U.L. con i propri, pur mantenendo l’origine per le stampe cont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abora i movimenti acquisiti (eventualmente filtrati per U.L.), effettua eventuali corre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spcAft>
                <a:spcPts val="2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stituisce il flusso dei dati ricevuti al destinatario che li acquisi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38880" y="3125880"/>
            <a:ext cx="2841480" cy="375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51640" y="-27000"/>
            <a:ext cx="3528720" cy="25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3716280"/>
            <a:ext cx="115272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508640"/>
            <a:ext cx="856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a base della Sede contiene tutti i dati pur mantenendo la provenienza, per cui è sempre possibile avere report filtrati per U.L. (Prima Nota, Estratti Conto, Bilanci, Budget, ec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29600" cy="3666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971640" y="11970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71640" y="206064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789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a base della Sede contiene tutti i dati pur mantenendo la provenienza, per cui è sempre possibile avere report filtrati per U.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estratto conto senza dettaglio Fornitori e con movimenti raggruppati per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235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1476360" y="1341360"/>
            <a:ext cx="5032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042920" y="1844640"/>
            <a:ext cx="43344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100080"/>
            <a:ext cx="52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TA’ LOCALI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report Se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437000"/>
            <a:ext cx="896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port contabili SED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 di Bilancio della Sede con tutti i movimenti delle U.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97360" y="0"/>
            <a:ext cx="434664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6373800" y="3500280"/>
            <a:ext cx="574560" cy="16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44:45Z</dcterms:created>
  <dc:creator>Admin</dc:creator>
  <dc:description/>
  <dc:language>en-US</dc:language>
  <cp:lastModifiedBy>csilvio</cp:lastModifiedBy>
  <dcterms:modified xsi:type="dcterms:W3CDTF">2005-03-02T16:38:02Z</dcterms:modified>
  <cp:revision>57</cp:revision>
  <dc:subject/>
  <dc:title>NPS -  Implementazioni ONG</dc:title>
</cp:coreProperties>
</file>